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png" ContentType="image/png"/>
  <Override PartName="/ppt/media/image11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991B-7363-4CA5-AA9F-393ED9FB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2AB-EDDC-4838-B621-F61D663B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348D-BC70-42E9-A01E-04ECAFDB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135-5114-49D6-B8CE-85605053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0063-BE83-4461-B9E9-2A5E2989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638E-38AB-4331-8CFD-23781115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11F3-32E7-41E5-B8D8-0704C7F3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54A5-E6F7-460A-B420-8BCC473B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5803-5422-4423-B83E-62C2ED4F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4D18-53AB-43C5-A7FB-557D2248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24D7-1950-4548-82AD-04C6A3C7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7C0E-1A23-4B5F-89E2-820E354F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C818-F028-47C7-A81F-D398CFC0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BF70-B5F0-4248-BDFF-8A2DA6B8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579E-4A54-45C4-B2F7-1F354C54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3F3B-9E42-4979-99D9-28D99FC9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AD34-7480-4B66-AD77-0C22B1C7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3D8-E2EB-4CCA-B497-ADD8CFA8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AA51-5657-4274-A4B7-1E3F20C0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145-E4FB-4C8E-AF2D-8157B6F0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24AF-73A8-4067-B47A-CBAEE629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DC6-9B3B-4D77-81C6-31BEBD83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C1C-4BBC-41EF-B9D0-4B2385CE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657-7797-4929-8A59-DFF5F0B1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61F0-B34A-44A2-B37F-9F1D9199734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E416-6987-4595-AD12-771C5B0067F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bmtneighbors.org/pearorchard.html" TargetMode="External"/><Relationship Id="rId3" Type="http://schemas.openxmlformats.org/officeDocument/2006/relationships/image" Target="../media/image8.png"/><Relationship Id="rId4" Type="http://schemas.openxmlformats.org/officeDocument/2006/relationships/hyperlink" Target="http://www.bmtneighbors.org/tyrellpark.html" TargetMode="External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en.wikipedia.org/wiki/File:Motiva_Enterprises_LLC_logo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00000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Brush Script Std"/>
              </a:rPr>
              <a:t>This is me unique ,as can be”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ickham Script Pro Regular"/>
              </a:rPr>
              <a:t>Jordan LaDa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 flipH="1">
            <a:off x="4572000" y="1828800"/>
            <a:ext cx="2362320" cy="1149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Bickham Script Pro Regular"/>
              </a:rPr>
              <a:t>Jordan La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000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767640" y="3610080"/>
            <a:ext cx="2376360" cy="3247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4505400" cy="1314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295280" y="5105520"/>
            <a:ext cx="5010120" cy="1457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0" y="609480"/>
            <a:ext cx="4524480" cy="13431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72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encil Std"/>
              </a:rPr>
              <a:t>my pa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as born in BMT, TX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’ve attended Price ,Fehl Elementary South Park Middle School, and Clifton J. Ozen high sch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715000" y="533520"/>
            <a:ext cx="28479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XF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Pear Orchard Neighborhood Association Sig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952880"/>
            <a:ext cx="2057400" cy="19051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 Std"/>
              </a:rPr>
              <a:t>My pres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'm creative and very intelligen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y favorite sport is foot bal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 am currently a mechanics assist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Tyrrell Park  Neighborhood Association Sig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400880" y="0"/>
            <a:ext cx="1743120" cy="1743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16002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encil Std"/>
              </a:rPr>
              <a:t>My futur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5 years I hope to be out of school and work for a top chemical plan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10 years I hope to have a nice house and be set for the rest of my life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Motiva Enterprises, LL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586480"/>
            <a:ext cx="914400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2362320" y="1905120"/>
            <a:ext cx="5495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Thats Me as YOU Can Se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5:31:36Z</dcterms:created>
  <dc:creator>766935</dc:creator>
  <dc:description/>
  <dc:language>en-US</dc:language>
  <cp:lastModifiedBy>766935</cp:lastModifiedBy>
  <dcterms:modified xsi:type="dcterms:W3CDTF">2009-04-15T15:47:03Z</dcterms:modified>
  <cp:revision>4</cp:revision>
  <dc:subject/>
  <dc:title>“This is me unique ,as can be”</dc:title>
</cp:coreProperties>
</file>